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13A7A1-DEE5-4C29-8FFD-A4A0E2B52B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5EB558-EBF8-421B-A436-3A2099B0C87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0ACC1-8B84-4633-9230-FFF6B383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08BF-6665-4657-9CCA-8B8E253D7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6FD9-A134-47D2-B11D-D858173A1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07AE-9C05-415B-B347-4170A83B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0CD0-32F0-405A-87BD-C3350A06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D823-63D0-46A7-B803-2BF7FAAD3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CA36-1FB8-4B50-B49D-F187CF41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F103-CF35-4FF4-9CAB-B6610C3A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19E8-EAF5-4601-A28A-4AF08716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ACA5-C17B-4EF5-8556-F8174738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B92E-F810-4846-91B5-A07AA4C4A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E3A9-BCAF-40FF-A60F-924F73A1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EAA43A-B20A-4877-AC77-8A088997D1CA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itle 1" descr=""/>
          <p:cNvPicPr/>
          <p:nvPr/>
        </p:nvPicPr>
        <p:blipFill>
          <a:blip r:embed="rId1"/>
          <a:stretch/>
        </p:blipFill>
        <p:spPr>
          <a:xfrm>
            <a:off x="689040" y="2127240"/>
            <a:ext cx="7772400" cy="1474920"/>
          </a:xfrm>
          <a:prstGeom prst="rect">
            <a:avLst/>
          </a:prstGeom>
          <a:ln w="0">
            <a:noFill/>
          </a:ln>
        </p:spPr>
      </p:pic>
      <p:pic>
        <p:nvPicPr>
          <p:cNvPr id="49" name="Subtitle 2" descr=""/>
          <p:cNvPicPr/>
          <p:nvPr/>
        </p:nvPicPr>
        <p:blipFill>
          <a:blip r:embed="rId2"/>
          <a:stretch/>
        </p:blipFill>
        <p:spPr>
          <a:xfrm>
            <a:off x="1322280" y="3865680"/>
            <a:ext cx="6499440" cy="184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ara usar el pretérito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use the preterit to talk about events that were completed in the past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is a definite start and ending of the ac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arration of eve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: What did you eat today?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: I ate a banan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5680080" y="3745080"/>
            <a:ext cx="2552760" cy="24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ular –ar verb ending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2354400"/>
          <a:ext cx="8229600" cy="377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79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7dfe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m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7dfeb"/>
                    </a:solidFill>
                  </a:tcPr>
                </a:tc>
              </a:tr>
              <a:tr h="12459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ste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12542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  <p:sp>
        <p:nvSpPr>
          <p:cNvPr id="55" name="TextBox 5"/>
          <p:cNvSpPr/>
          <p:nvPr/>
        </p:nvSpPr>
        <p:spPr>
          <a:xfrm>
            <a:off x="3330720" y="1765440"/>
            <a:ext cx="30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  <a:ea typeface="Arial"/>
              </a:rPr>
              <a:t>Hablar =         To tal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áctica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____________ (hablar) por teléfono toda la noch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amiga _________  (usar) mi computador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padre y yo _________ (comprar) un regalo para mi mad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ctor y Miguel __________ (escuchar) los ipods después de _________ (tomar) el exam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puestas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hablé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or teléfono toda la noch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amiga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usó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computador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padre y 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pramos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un regalo para mi madr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ctor y Miguel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scucharon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os ipods después de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omar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l exame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¡Ojo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ar verbs that stem change in the present tense do NOT have a stem change in the preter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a cosa má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bs that end in –car, -gar and –zar have a spelling change in the Y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Busca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qu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busqu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aga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g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gu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pagu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morza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z </a:t>
            </a:r>
            <a:r>
              <a:rPr b="0" lang="en-US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  yo almorcé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áctica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Yo______ (llegar) tarde a la clase de español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Yo _________ (practicar) fútbol después de las clas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Yo ______ (empezar) la tarea anoche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Hoy yo _______ (almorzar) al mediodí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Esta fin de semana, yo no ______(jugar) videojuegos con Mateo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libri"/>
              </a:rPr>
              <a:t>Ayer en la casa, yo no ________ (sacar) la basura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puesta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599840"/>
            <a:ext cx="8229600" cy="49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legué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arde a la clase de español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actiqué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fútbol después de las clase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mpecé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la tarea anoch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y 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lmorcé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al mediodí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a fin de semana yo n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jugué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deo juegos con Mate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yer en la casa, yo n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qué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la basura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4:20:43Z</dcterms:created>
  <dc:creator>localadmin</dc:creator>
  <dc:description/>
  <dc:language>en-US</dc:language>
  <cp:lastModifiedBy>Prine, Stephanie</cp:lastModifiedBy>
  <dcterms:modified xsi:type="dcterms:W3CDTF">2016-02-23T15:55:26Z</dcterms:modified>
  <cp:revision>17</cp:revision>
  <dc:subject/>
  <dc:title>El pretérito</dc:title>
</cp:coreProperties>
</file>